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966-8FDC-47B9-8108-2F88EBCA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2E0-9A65-48A8-B1A7-5599B107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E10-0720-4CEB-9EE0-1B289204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B20-F2CA-47AB-BD59-FA5B208C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B36-C5A9-4D0F-A3DA-46A6371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F55-7071-4F53-9CEC-09F583C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3FE-DA78-4C4A-AE2C-241E9A4E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050-CF28-4E57-AECC-24DBF87D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B82-0EAD-495D-BA57-542E7A9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981-D2DC-4F1F-8E66-CDB0ECEC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647-E43D-496A-BA2E-33ED8CF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D93-17F1-4FFF-A83A-57C452C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D386-3868-4577-A38A-8CA548E8D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42;&#1080;&#1090;&#1090;&#1077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0240" y="114300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квадратно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5"/>
          <a:stretch/>
        </p:blipFill>
        <p:spPr>
          <a:xfrm>
            <a:off x="1071720" y="2643120"/>
            <a:ext cx="266688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6"/>
          <a:stretch/>
        </p:blipFill>
        <p:spPr>
          <a:xfrm>
            <a:off x="6072120" y="2643120"/>
            <a:ext cx="2867040" cy="48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"/>
          <p:cNvPicPr/>
          <p:nvPr/>
        </p:nvPicPr>
        <p:blipFill>
          <a:blip r:embed="rId7"/>
          <a:stretch/>
        </p:blipFill>
        <p:spPr>
          <a:xfrm>
            <a:off x="2214720" y="3286080"/>
            <a:ext cx="199800" cy="866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"/>
          <p:cNvPicPr/>
          <p:nvPr/>
        </p:nvPicPr>
        <p:blipFill>
          <a:blip r:embed="rId8"/>
          <a:stretch/>
        </p:blipFill>
        <p:spPr>
          <a:xfrm>
            <a:off x="7429680" y="3286080"/>
            <a:ext cx="199800" cy="857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8"/>
          <p:cNvSpPr/>
          <p:nvPr/>
        </p:nvSpPr>
        <p:spPr>
          <a:xfrm>
            <a:off x="1928880" y="3286080"/>
            <a:ext cx="78588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2"/>
          <p:cNvSpPr/>
          <p:nvPr/>
        </p:nvSpPr>
        <p:spPr>
          <a:xfrm>
            <a:off x="7143840" y="3286080"/>
            <a:ext cx="78588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6:17Z</dcterms:created>
  <dc:creator>Admin</dc:creator>
  <dc:description/>
  <dc:language>en-US</dc:language>
  <cp:lastModifiedBy>Admin</cp:lastModifiedBy>
  <dcterms:modified xsi:type="dcterms:W3CDTF">2004-01-01T00:16:49Z</dcterms:modified>
  <cp:revision>2</cp:revision>
  <dc:subject/>
  <dc:title>Слайд 1</dc:title>
</cp:coreProperties>
</file>